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122F-201F-4DD7-918E-92D83A99B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3C64-5DB5-45ED-99B4-ED9C4020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DA1E-AA67-48A5-B0D9-86C55CB4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0389-799B-4AF1-9637-F3D538944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BDBA-57C0-4E7F-8EB8-4369DD6D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1D45-6B9C-4A70-9F42-4E104F0C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BBED-F475-4173-BAC6-93BF9B7D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1AC8-A5A1-455B-A033-9C240E5F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DE8D-A52C-4E76-9975-70C5943D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9AAE-AF47-4AF0-A00B-15BF5E20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E7FB-C878-45E0-9FA2-B3D2B15B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1F31-A3FF-495E-B014-E6C18DE4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2334-47DB-41A2-909E-5DC62064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7359-3E63-4763-BBCE-BA8A7E40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0ABB-1985-4E30-9C5D-2C14F7FD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3161-B208-490E-BB99-3F5F3220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9E1D-37EA-45BA-A548-24CAFCC89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6283-9E42-475D-949E-77771063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E720-E972-45DA-BD86-ACB6A3F7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AAA4-F781-4F19-961A-797FD70B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987A-C5B3-4BFA-BDC1-BC1D2BD7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B500-FB87-4F8C-AA2A-16094FF6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AE82-3247-4FE6-8864-6B537CC6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C090-5F61-42D7-AD24-B0605457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26D9-E815-426A-AC55-202C9D9FC80D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1D0F-4BE8-446E-9851-6F7DC367D47F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mnant Shall Retu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Quarter 8, Lesson 3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g.21-27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70812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flipV="1">
            <a:off x="3886200" y="2133720"/>
            <a:ext cx="0" cy="403848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62320" y="2286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ere We Are In This Less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25909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Judah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919080"/>
            <a:ext cx="9144000" cy="5938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3880" y="3049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 Babylon Under King Nebuchadnezz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52880" y="4343400"/>
            <a:ext cx="1067040" cy="45720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ree Young Hebrews Under Pres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adrach, Meshach, and Abednego in the fiery furnace – Dan.3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buchadnezzar’s Impressive Statue/Ido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Pressure To Compromis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Pomp and Ceremon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Faith To Overcom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Fourth Man in the Fir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ack In Juda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Jehoiakim rebels against Nebuchadnezzar – 2 Kgs.24:1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en Egypt rebelled in 601 B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abylon lost the battle with Egypt but regrouped to return again in 598/7B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ehoiakim died about this tim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gypt was defeated and Jerusalem surrendered – 2 Kgs.24:8-16;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 Chron.36:9-10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ack In Juda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Zedekiah was placed in Jerusalem by Nebuchadnezzar as his puppe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econiah (Jehoiachin) would not have a descendant prospering on the throne – Jer.22:24-30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Second group of captives were taken away, including Ezeki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ome of these thought God was blessing them over the previous group of captives – Jer.24:1-1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so, some of Mordecai’s people were taken – Esther 2:5-6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ome thought the stay in Babylon would be short-lived, but Jeremiah told them to settle in for a long stay – 29:1-3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ack In Juda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594 BC – Fourth year of Zedekiah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alk among Judeans (that were left) that they could align with Edom, Moab, Ammon, Tyre and Sidon and succeed against Babyl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eremiah said not to listen to the false prophets and submit to Babylon – Jer.27:1-22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ack In Juda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Jeremiah said that Babylon would fall and never rise again – Jer.51:59-64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zekiel was called to prophesy among the commons in Zedekiah’s 5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year – Ezek.1:2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zekiel 1-24 cover years 5-9 of Zedekiah’s reign in Jerusale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Siege of Jerusalem lasted from year 9-11 of Zedekiah’s puppet reig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zekiel’s Mini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day, 4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month, 5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year of captivity – Ezek.1:2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vers Chapters 1-7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day, 6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month, 6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year –(Ch.8-19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day, 5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month, 7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year –(Ch.20-23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day, 1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month, 9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year –(Ch.24:1-2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4T19:14:00Z</dcterms:created>
  <dc:creator>Terry W. Benton</dc:creator>
  <dc:description/>
  <dc:language>en-US</dc:language>
  <cp:lastModifiedBy>Frank D Vines</cp:lastModifiedBy>
  <dcterms:modified xsi:type="dcterms:W3CDTF">2007-02-01T15:54:38Z</dcterms:modified>
  <cp:revision>4</cp:revision>
  <dc:subject/>
  <dc:title>A Remnant Shall Retur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